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674E-20D2-4411-B6EA-FCDCB881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F298-A2FE-4325-87B2-72BFF570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2B6A-8DFA-48F9-BA57-034D3A06B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D000-5B7C-48D8-A287-2A5F6F87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F87B-DDC8-4272-AB51-60E96C37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4BD3-EAAB-4124-85B2-C55DE4D4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7B7A-CE0F-4C07-8DB9-633FD12D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557B-FFFC-4D87-83BB-9D48A5E2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D6B0-79A6-40C4-9FF9-3AD5A49E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0EC5-8529-425A-BA9B-0225B306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7610-B1FD-4745-B7C2-0318B6D5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5EAA-8FB7-4671-9989-EF5A4204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12F4-61E7-4EC0-A4D2-7287DB5B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032E-6D85-4E70-AF2C-6324A976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8D9F-B591-45BF-8369-B2ABD7BB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1177-C025-4072-BC6D-E83D7D59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95D0-CE78-4C37-9D95-84DF7B44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F74C-A279-4783-AFBB-1978579A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A0C9-601C-430E-A5A5-4C0ED8E5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2E18-BE46-4143-9F3C-EBC0E5A0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0A5B-6029-4F23-B427-AA3280DB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A5FD-E71A-4776-8816-CFBE4DB3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5079-0C1C-4177-83B5-927B27A0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DF6F-3C03-4A89-9FD1-E092A27F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516F-AD9C-4368-AB83-BB0B78044ECB}" type="slidenum"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2720" cy="2057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8765-626D-4F46-B365-8306BF1961D5}" type="slidenum"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2720" cy="2057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ivil War Reconstructio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480" y="4267080"/>
            <a:ext cx="5562720" cy="1524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olb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3733560" cy="54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Amendments to the Constitutio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23920" y="2362320"/>
            <a:ext cx="4343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13  Amendment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bolition of slavery, except as a punishment for crim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14 Amendm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rants citizenship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15 Amendm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uffrage no longer restricted by rac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Black Codes and the KKK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1640" y="1980720"/>
            <a:ext cx="3886200" cy="40388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lack Cod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aws passed on the state and local level to limit the civil rights of black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KKK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sed terrorism and violence to murder and oppress African America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6320" y="215280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Plessy vs. Ferguso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86200" y="1981080"/>
            <a:ext cx="45720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omer Plessy boarded a “white” train car while being 1/8 African America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court decided having separate cars for blacks was “separate but equal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2805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Booker T. Washingto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76360" y="1981080"/>
            <a:ext cx="51814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as born into slaver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Learned to read and writ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Believed that for African Americans to achieve higher status, they must become economically stabl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3252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W.E.B. DuBoi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62160" y="1981080"/>
            <a:ext cx="464796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as born in a community with long anti-slavery histor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elieved that African Americans should push for their social and political rights in order to achieve equalit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361944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5:31:43Z</dcterms:created>
  <dc:creator>Yarmouth Schools</dc:creator>
  <dc:description/>
  <dc:language>en-US</dc:language>
  <cp:lastModifiedBy>YHS Teacher</cp:lastModifiedBy>
  <dcterms:modified xsi:type="dcterms:W3CDTF">2009-06-12T00:46:57Z</dcterms:modified>
  <cp:revision>13</cp:revision>
  <dc:subject/>
  <dc:title>Civil War</dc:title>
</cp:coreProperties>
</file>